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8423-4DDE-4CF9-B15C-0B3EAA61B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FAE1-46C8-483C-88EE-A1042F126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F86B-4DB8-49DB-B84F-F7111A160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ADA-513F-477F-8085-99C88C1D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986-6950-4879-82B1-6B367815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EA4-7562-4AF0-872D-D9CA715F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067-4AEF-4249-B9D8-27775ED2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E37-4410-4C06-B50C-30BC632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5C0-777F-411E-A1F0-88B8A2E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9B5-9F62-48EE-8F7F-F781DC0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785-8A45-4E1E-9067-C733465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E12-AD11-42FA-94A5-C5E8FD11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863-E980-4473-9850-23B9A601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8AB-30CD-48DB-8F4A-B279CF0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AE5-4E72-433A-83D4-04D72821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65C2-172F-42E0-BD3B-599B5F7FB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29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lang="ru-RU" sz="4200" spc="-1" strike="noStrike">
                <a:solidFill>
                  <a:srgbClr val="ff0000"/>
                </a:solidFill>
                <a:latin typeface="Georgia"/>
              </a:rPr>
              <a:t>«Городновский сельсовет»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Железногорского района Курской области на 2022 г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2023 и 20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4 г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16" descr=""/>
          <p:cNvPicPr/>
          <p:nvPr/>
        </p:nvPicPr>
        <p:blipFill>
          <a:blip r:embed="rId2"/>
          <a:stretch/>
        </p:blipFill>
        <p:spPr>
          <a:xfrm>
            <a:off x="57240" y="2349360"/>
            <a:ext cx="89629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1" descr="ZZ446cH-h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Городновский сельсовет» Железногорского района Курской области на 2022 год и на плановый период 2023 и 2024 годов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125360"/>
          <a:ext cx="8318520" cy="5656320"/>
        </p:xfrm>
        <a:graphic>
          <a:graphicData uri="http://schemas.openxmlformats.org/drawingml/2006/table">
            <a:tbl>
              <a:tblPr/>
              <a:tblGrid>
                <a:gridCol w="2079720"/>
                <a:gridCol w="2079360"/>
                <a:gridCol w="2079720"/>
                <a:gridCol w="2079720"/>
              </a:tblGrid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1" descr="ti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17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Городновский сельсовет» Железногорского района Курской области в 2024-2024 годах (тыс.руб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052640"/>
          <a:ext cx="9180360" cy="5881680"/>
        </p:xfrm>
        <a:graphic>
          <a:graphicData uri="http://schemas.openxmlformats.org/drawingml/2006/table">
            <a:tbl>
              <a:tblPr/>
              <a:tblGrid>
                <a:gridCol w="6156360"/>
                <a:gridCol w="936720"/>
                <a:gridCol w="934920"/>
                <a:gridCol w="115236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676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7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57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87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9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95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1. Муниципальная программа «Развитие культуры в муниципальном образовании «Городновский  сельсовет»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1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2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32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2.Муниципальная программа «Социальная поддержка граждан в Городновском 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. Муниципальная программа «Благоустройство Городновского сельсовета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. Муниципальная программа «Развитие муниципальной службы в Городновском сельсовете Железногорского района Курской обла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Georgia"/>
                        </a:rPr>
                        <a:t>5. Муниципальная программа «</a:t>
                      </a:r>
                      <a:r>
                        <a:rPr b="1" lang="ru-RU" sz="1400" spc="-1" strike="noStrike">
                          <a:solidFill>
                            <a:srgbClr val="1818d2"/>
                          </a:solidFill>
                          <a:latin typeface="Century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в Городновском сельсовете Железногор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6" descr="9d9bea5b6ea984b4e8dc344bf4a6f1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Городновский сельсовет» </a:t>
            </a:r>
            <a:br>
              <a:rPr sz="2000"/>
            </a:br>
            <a:r>
              <a:rPr b="1" lang="ru-RU" sz="2000" spc="-1" strike="noStrike">
                <a:solidFill>
                  <a:srgbClr val="da102d"/>
                </a:solidFill>
                <a:latin typeface="Georgia"/>
              </a:rPr>
              <a:t>Железногорского района Курской области (тыс.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268280"/>
          <a:ext cx="8215200" cy="5383440"/>
        </p:xfrm>
        <a:graphic>
          <a:graphicData uri="http://schemas.openxmlformats.org/drawingml/2006/table">
            <a:tbl>
              <a:tblPr/>
              <a:tblGrid>
                <a:gridCol w="4681440"/>
                <a:gridCol w="1224000"/>
                <a:gridCol w="1238040"/>
                <a:gridCol w="1071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285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15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144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Муниципальная программа «Развитие муниципальной службы в Городновском сельсовете Железногорского района  Курской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4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mbria Math"/>
                          <a:ea typeface="Cambria Math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4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4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4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9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9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96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Выполнение других обязательств муниципальных образ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a102d"/>
                          </a:solidFill>
                          <a:latin typeface="Cambria Math"/>
                          <a:ea typeface="Cambria Math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dengi_midl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rot="16200000">
            <a:off x="100728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 rot="16200000">
            <a:off x="5435640" y="907920"/>
            <a:ext cx="2736720" cy="432144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1audittrassi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Городновского сельсо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«Городновский сельсов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3" descr="10316863_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da102d"/>
                </a:solidFill>
                <a:latin typeface="Georgia"/>
              </a:rPr>
              <a:t>«Городновский сельсовет»  Железногорского района Курской области на 2022 год и плановый период 2023-2024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2205000"/>
          <a:ext cx="7961400" cy="4262400"/>
        </p:xfrm>
        <a:graphic>
          <a:graphicData uri="http://schemas.openxmlformats.org/drawingml/2006/table">
            <a:tbl>
              <a:tblPr/>
              <a:tblGrid>
                <a:gridCol w="2670120"/>
                <a:gridCol w="1862280"/>
                <a:gridCol w="1785960"/>
                <a:gridCol w="164304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6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4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9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30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3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7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6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4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2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хема 1" descr=""/>
          <p:cNvPicPr/>
          <p:nvPr/>
        </p:nvPicPr>
        <p:blipFill>
          <a:blip r:embed="rId2"/>
          <a:stretch/>
        </p:blipFill>
        <p:spPr>
          <a:xfrm>
            <a:off x="281160" y="1841400"/>
            <a:ext cx="8613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3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1" descr=""/>
          <p:cNvPicPr/>
          <p:nvPr/>
        </p:nvPicPr>
        <p:blipFill>
          <a:blip r:embed="rId2"/>
          <a:stretch/>
        </p:blipFill>
        <p:spPr>
          <a:xfrm>
            <a:off x="281160" y="1841400"/>
            <a:ext cx="8613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23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Городновский сельсовет» на 2024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хема 1" descr=""/>
          <p:cNvPicPr/>
          <p:nvPr/>
        </p:nvPicPr>
        <p:blipFill>
          <a:blip r:embed="rId2"/>
          <a:stretch/>
        </p:blipFill>
        <p:spPr>
          <a:xfrm>
            <a:off x="324000" y="1841400"/>
            <a:ext cx="84960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7" descr="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16" descr=""/>
          <p:cNvPicPr/>
          <p:nvPr/>
        </p:nvPicPr>
        <p:blipFill>
          <a:blip r:embed="rId2"/>
          <a:stretch/>
        </p:blipFill>
        <p:spPr>
          <a:xfrm>
            <a:off x="57240" y="2349360"/>
            <a:ext cx="89629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main"/>
          <p:cNvPicPr/>
          <p:nvPr/>
        </p:nvPicPr>
        <p:blipFill>
          <a:blip r:embed="rId1"/>
          <a:stretch/>
        </p:blipFill>
        <p:spPr>
          <a:xfrm>
            <a:off x="-541440" y="-998640"/>
            <a:ext cx="10514160" cy="7850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583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Городновский сельсовет»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ject 16" descr=""/>
          <p:cNvPicPr/>
          <p:nvPr/>
        </p:nvPicPr>
        <p:blipFill>
          <a:blip r:embed="rId2"/>
          <a:stretch/>
        </p:blipFill>
        <p:spPr>
          <a:xfrm>
            <a:off x="200160" y="1558800"/>
            <a:ext cx="87771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Buch</cp:lastModifiedBy>
  <dcterms:modified xsi:type="dcterms:W3CDTF">2022-01-04T18:30:26Z</dcterms:modified>
  <cp:revision>100</cp:revision>
  <dc:subject/>
  <dc:title>БЮДЖЕТ ДЛЯ ГРАЖДАН  муниципального образования «Кармановский сельсовет» Железногорского района Курской области на 2015 год  и на плановый период  2016 и 2017 годов</dc:title>
</cp:coreProperties>
</file>